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870-F84C-45DB-90AD-033FA9B0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664-3B5C-4D3A-88B9-1DFB8AC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741-30C8-4108-869C-E98839F4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CE2-FFF5-487C-9F45-3C46A2BA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B22-AF98-4E41-A3F9-212428FF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2A3-9A3C-409E-8B2E-5F8ECE3F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78E-2EEA-4AED-9364-FA5152F1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0AE-4B02-4988-B788-4E45F5E3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6A1-FFCA-429C-BF51-B420379A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0A2-CC84-42C6-8381-E61CCD72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777-D5F4-464D-BFA7-11AACF7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BF4-4101-47B9-82D8-69D1146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565B7-5850-43F1-A4DF-D391384ACFAA}" type="datetime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187AF-F030-4C96-ABB7-B1BF3DAAB058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932040"/>
            <a:ext cx="91440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NIFICAÇÃO E CONFEITARIA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do setor em 201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José Joffre Nascimento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1DDB1-B1B6-4F65-ACBA-735C52710387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314280" y="1241280"/>
            <a:ext cx="86281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o do emprego com redução do tempo de permanência das pessoas em casas, contribuindo com o aumento das refeições fora do lar – 30% no Brasil, enquanto nos EUA é de 42%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s com mais dinheiro comem mais fora de casa e compram produtos com maior valor agregado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rnização das empresas, inovando em equipamentos, processos e gestão administrativa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85D66-A14C-41E7-BED2-D78BF85AE945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Motivos do crescimento do setor de Panific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CaixaDeTexto 5"/>
          <p:cNvSpPr/>
          <p:nvPr/>
        </p:nvSpPr>
        <p:spPr>
          <a:xfrm>
            <a:off x="314280" y="1241280"/>
            <a:ext cx="8628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 de 3,6 milhões de pessoas à classe  média; destes, 1,4 milhão vieram da classe E e 356 mil da classe D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populacional de 1,6 milhão de pessoas entre 2010 e 2011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do PIB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r cap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L 806/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Importante ação realizada em conjunto com panificadores de Serg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23% das panificadoras brasileiras utilizam lenha como fonte energe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azo para adequ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TE. Atualiza redação da norma sobre equipament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vigor  Dezembro/2010 estabelece prazos para troca de equipamentos de 12 a 66 m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anificação:Cilindro,Amassadeiras,batedeiras,modeladoras e demais máqui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NR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Mais de 30 seminários realizados pela entidade nacional de panificação sensibilizando o panificador quanto a necessidade da troca de equip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ndicatos consiguiram abertura de credito junto as linhas de credito governamentais(BND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Responsabilidade Socio-Ambei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acola Perman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Óleo Comestível us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leta de P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desão a projetos da comun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Forno V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Trabalho sendo realizado juntamente com o Inmetro,Abip,Abiepan(Fabricantes) e Sebra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rnos ,fogões receberão selo relativo a sua eficiencia energé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A1F04-D5EB-4309-9A27-E368AAEA53CB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CaixaDeTexto 6"/>
          <p:cNvSpPr/>
          <p:nvPr/>
        </p:nvSpPr>
        <p:spPr>
          <a:xfrm>
            <a:off x="417600" y="779400"/>
            <a:ext cx="826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BIP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Grande"/>
              </a:rPr>
              <a:t>Associação Brasileira da Indústria da Panificação e Confeitari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SHN Quadra 02 – Bloco H, nº 30, Sobreloja – Sala 55 – Mix Metropolitan Fla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Brasília/DF – Cep: 70.702-905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Tel: (61) 3327-3332 / (31) 3274-6376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Grande"/>
              </a:rPr>
              <a:t>www.abip.org.br / www.propan.com.br / propan@propan.com.b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DC55D-C6F1-46CB-B95A-35A3C065FB7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lassificação das empresas por nº de funcionário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4" name="Gráfico 7" descr=""/>
          <p:cNvPicPr/>
          <p:nvPr/>
        </p:nvPicPr>
        <p:blipFill>
          <a:blip r:embed="rId1"/>
          <a:stretch/>
        </p:blipFill>
        <p:spPr>
          <a:xfrm>
            <a:off x="542880" y="731880"/>
            <a:ext cx="7839000" cy="504648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1"/>
          <p:cNvSpPr/>
          <p:nvPr/>
        </p:nvSpPr>
        <p:spPr>
          <a:xfrm>
            <a:off x="5756400" y="6432480"/>
            <a:ext cx="2368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onte: ABIP/Propan - 2009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D1096-B132-43F2-8D02-DACFBD75C27F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8" name="Gráfico 5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7CF23-453E-461C-B709-AFABEA267AC6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Retângulo 3"/>
          <p:cNvSpPr/>
          <p:nvPr/>
        </p:nvSpPr>
        <p:spPr>
          <a:xfrm>
            <a:off x="0" y="0"/>
            <a:ext cx="91440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Setor de Panificação - Indicadores 2011  - Descontados a Inflaçã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Gráfico 4" descr=""/>
          <p:cNvPicPr/>
          <p:nvPr/>
        </p:nvPicPr>
        <p:blipFill>
          <a:blip r:embed="rId1"/>
          <a:stretch/>
        </p:blipFill>
        <p:spPr>
          <a:xfrm>
            <a:off x="0" y="0"/>
            <a:ext cx="836928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0BE68-96A6-4726-BA64-6D09B0C7FA29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o Faturamento - em Bilhões de Reais e %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" name="Gráfico 6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915696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E7279-750C-4921-96B2-39E6372D7BE1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rformance do Setor de Panificação e Confeitari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Retângulo 7"/>
          <p:cNvSpPr/>
          <p:nvPr/>
        </p:nvSpPr>
        <p:spPr>
          <a:xfrm>
            <a:off x="4572000" y="5202360"/>
            <a:ext cx="45720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Valor estimado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Fonte:ITPC/Propan – 2012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Lucida Grande"/>
              </a:rPr>
              <a:t>***Comparado com o ano anterior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03200" y="752400"/>
          <a:ext cx="8269200" cy="4373640"/>
        </p:xfrm>
        <a:graphic>
          <a:graphicData uri="http://schemas.openxmlformats.org/drawingml/2006/table">
            <a:tbl>
              <a:tblPr/>
              <a:tblGrid>
                <a:gridCol w="992160"/>
                <a:gridCol w="2306520"/>
                <a:gridCol w="1824120"/>
                <a:gridCol w="1654200"/>
                <a:gridCol w="1492200"/>
              </a:tblGrid>
              <a:tr h="482760"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do Setor de Panificação no PIB Brasilei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uramento*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cimento do setor 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61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38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98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52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52 b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trilh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52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30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 tr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84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9 bilhõ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 trilhões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B1809-B1BC-4D07-80CF-7A4D2C213121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0" y="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Evolução de outros três Indicadores do Setor de Panificação (em %)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2006 - 2011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Gráfico 4" descr=""/>
          <p:cNvPicPr/>
          <p:nvPr/>
        </p:nvPicPr>
        <p:blipFill>
          <a:blip r:embed="rId1"/>
          <a:stretch/>
        </p:blipFill>
        <p:spPr>
          <a:xfrm>
            <a:off x="609480" y="652320"/>
            <a:ext cx="76392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5B59A-05CD-4126-AD7A-0846ED17D74B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Retângulo 3"/>
          <p:cNvSpPr/>
          <p:nvPr/>
        </p:nvSpPr>
        <p:spPr>
          <a:xfrm>
            <a:off x="0" y="119160"/>
            <a:ext cx="9144000" cy="8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CaixaDeTexto 5"/>
          <p:cNvSpPr/>
          <p:nvPr/>
        </p:nvSpPr>
        <p:spPr>
          <a:xfrm>
            <a:off x="266760" y="1522440"/>
            <a:ext cx="86868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luxo de pessoas atingiu a marca de 43,23 milhões de pessoas, quase 1 milhão a mais do que o ano de 2010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s vendas de produtos de produção própria – R$ 32,12 bilhões –  representaram 51% do faturamento total de R$ 62,99 bilhõe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jeção do faturamento abrange cerca de 20% de empresas informais do setor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ACBC7-74BE-4E63-AAD1-2A0CD142B7B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Retângulo 3"/>
          <p:cNvSpPr/>
          <p:nvPr/>
        </p:nvSpPr>
        <p:spPr>
          <a:xfrm>
            <a:off x="0" y="190440"/>
            <a:ext cx="914400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Desempenho do Setor em 2011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CaixaDeTexto 5"/>
          <p:cNvSpPr/>
          <p:nvPr/>
        </p:nvSpPr>
        <p:spPr>
          <a:xfrm>
            <a:off x="343080" y="649440"/>
            <a:ext cx="82105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de panificação  vem contribuindo consideravelmente, nos últimos anos, para o crescimento  do </a:t>
            </a:r>
            <a:r>
              <a:rPr b="0" i="1" lang="pt-BR" sz="2000" spc="-1" strike="noStrike">
                <a:solidFill>
                  <a:srgbClr val="c00000"/>
                </a:solidFill>
                <a:latin typeface="Lucida Grande"/>
              </a:rPr>
              <a:t>food service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no Brasil. Em 2011 a participação aproximada foi   de 36,05% do  faturamento de R$ 89,1 bilhões do </a:t>
            </a:r>
            <a:r>
              <a:rPr b="0" i="1" lang="pt-BR" sz="2000" spc="-1" strike="noStrike">
                <a:solidFill>
                  <a:srgbClr val="000000"/>
                </a:solidFill>
                <a:latin typeface="Lucida Grande"/>
              </a:rPr>
              <a:t>food servi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Lucida Grande"/>
              </a:rPr>
              <a:t>Aumento de 2,8% no número de postos de trabalhos gerados em 2011, Isso representa  21 mil funcionários contratados pelas padarias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Lucida Grande"/>
              </a:rPr>
              <a:t>O setor emprega  cerca de 779 mil empregos diretos e 1,8 milhão de forma indireta;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4:42:51Z</dcterms:created>
  <dc:creator>Alysson</dc:creator>
  <dc:description/>
  <dc:language>en-US</dc:language>
  <cp:lastModifiedBy>Usuário</cp:lastModifiedBy>
  <dcterms:modified xsi:type="dcterms:W3CDTF">2012-07-04T12:07:49Z</dcterms:modified>
  <cp:revision>221</cp:revision>
  <dc:subject/>
  <dc:title>Slide 1</dc:title>
</cp:coreProperties>
</file>